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7F34-6E96-4C90-B8DD-31843D22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DE6-16A6-4669-ABEE-CFFED8D5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71AB-1B74-4B28-84CF-100939C2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94FB-0824-44E9-8D00-892CC9EF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1081-5488-42BB-AED5-BD990D52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5B81-4DF3-4940-BE2F-F9240053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C646-963F-43F3-ACD6-B8A46908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AA5A-90B7-451D-AC0A-3B4B3DD6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4618-1D7F-4713-AFF5-454F1D02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04720" y="306000"/>
            <a:ext cx="9072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D120-34E8-4D1B-828B-06E42B35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9BE9-EEAC-4DC8-A0D7-01781E8A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F366-A9AD-4A89-B907-485BC54E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9F0C-6E79-43E7-A976-81A80145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1148-64F5-4AD8-9127-DAACAA19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4E04-2114-429A-9264-E6F20BFA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046B-B31D-4A1C-8A7A-0FB52112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6D39-0AB4-4E33-BF64-316D2BE4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1E8-44CA-44B5-B038-4217622E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C15-CA84-4CDB-AAC4-C1E5EA93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5B9-206C-4D39-A729-458ACCA9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04720" y="306000"/>
            <a:ext cx="9072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D20-0C63-429B-A91C-A9C03B07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30B-DFC2-45E3-9507-1D79BD12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4A3-3E7A-4968-B71F-C9CA832E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A21B-81CA-48F9-8E4A-77A26190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080360" cy="7643520"/>
            <a:chOff x="0" y="0"/>
            <a:chExt cx="10080360" cy="7643520"/>
          </a:xfrm>
        </p:grpSpPr>
        <p:sp>
          <p:nvSpPr>
            <p:cNvPr id="1" name=""/>
            <p:cNvSpPr/>
            <p:nvPr/>
          </p:nvSpPr>
          <p:spPr>
            <a:xfrm>
              <a:off x="0" y="3863880"/>
              <a:ext cx="4401360" cy="344700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367880"/>
              <a:ext cx="3695760" cy="2806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660840" y="5657400"/>
              <a:ext cx="6419160" cy="1649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916920"/>
              <a:ext cx="1702800" cy="209088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579280" y="1440"/>
              <a:ext cx="4497480" cy="3965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168960" y="1440"/>
              <a:ext cx="3824280" cy="26388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135440"/>
              <a:ext cx="1427760" cy="141012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703600"/>
              <a:ext cx="1333440" cy="18720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49640" y="6004080"/>
              <a:ext cx="5568840" cy="13035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5880" y="22212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7120" y="22932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7055640"/>
              <a:ext cx="10080360" cy="5036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7055640"/>
              <a:ext cx="10080360" cy="5878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10080360" cy="5036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90640" y="400680"/>
              <a:ext cx="5579280" cy="354168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52240" y="512640"/>
              <a:ext cx="3751920" cy="31269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131080" y="3023640"/>
              <a:ext cx="4949280" cy="4140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530320" y="3254760"/>
              <a:ext cx="3783600" cy="3384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876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252360">
              <a:spcBef>
                <a:spcPts val="876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4" marL="2268360" indent="-252360">
              <a:spcBef>
                <a:spcPts val="8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50436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DB014CBC-E247-4487-9A96-6852FDD6A357}" type="slidenum"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10080360" cy="7643520"/>
            <a:chOff x="0" y="0"/>
            <a:chExt cx="10080360" cy="7643520"/>
          </a:xfrm>
        </p:grpSpPr>
        <p:sp>
          <p:nvSpPr>
            <p:cNvPr id="61" name=""/>
            <p:cNvSpPr/>
            <p:nvPr/>
          </p:nvSpPr>
          <p:spPr>
            <a:xfrm>
              <a:off x="0" y="3863880"/>
              <a:ext cx="4401360" cy="344700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4367880"/>
              <a:ext cx="3695760" cy="2806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60840" y="5657400"/>
              <a:ext cx="6419160" cy="1649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916920"/>
              <a:ext cx="1702800" cy="209088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79280" y="1440"/>
              <a:ext cx="4497480" cy="3965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68960" y="1440"/>
              <a:ext cx="3824280" cy="26388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135440"/>
              <a:ext cx="1427760" cy="141012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703600"/>
              <a:ext cx="1333440" cy="18720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49640" y="6004080"/>
              <a:ext cx="5568840" cy="13035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5880" y="22212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7120" y="22932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7055640"/>
              <a:ext cx="10080360" cy="5036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7055640"/>
              <a:ext cx="10080360" cy="5878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10080360" cy="5036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0640" y="400680"/>
              <a:ext cx="5579280" cy="354168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52240" y="512640"/>
              <a:ext cx="3751920" cy="31269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31080" y="3023640"/>
              <a:ext cx="4949280" cy="4140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30320" y="3254760"/>
              <a:ext cx="3783600" cy="3384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9440" cy="191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50436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07A798F5-27C9-47AA-8774-30807AD07062}" type="slidenum"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L TEXTO EXPOSITIVO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04720" y="1768320"/>
          <a:ext cx="9215280" cy="5035320"/>
        </p:xfrm>
        <a:graphic>
          <a:graphicData uri="http://schemas.openxmlformats.org/drawingml/2006/table">
            <a:tbl>
              <a:tblPr/>
              <a:tblGrid>
                <a:gridCol w="9215280"/>
              </a:tblGrid>
              <a:tr h="545904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l texto expositivo es un texto en el cual se presenta información sobre un determinado tema.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700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No se pretende transmitir una opinión. Si se hace, entonces estamos ante un texto expositivo-argumentativo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700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edomina la función representativa (también llamada “referencial”) del lenguaj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7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us características son la claridad, la precisión y la objetividad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DEL TEXTO EXPOSITIVO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Orden de la estructuración (II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6000" y="2124000"/>
          <a:ext cx="9577440" cy="5040360"/>
        </p:xfrm>
        <a:graphic>
          <a:graphicData uri="http://schemas.openxmlformats.org/drawingml/2006/table">
            <a:tbl>
              <a:tblPr/>
              <a:tblGrid>
                <a:gridCol w="9577440"/>
              </a:tblGrid>
              <a:tr h="5040360">
                <a:tc>
                  <a:txBody>
                    <a:bodyPr lIns="90000" rIns="90000" tIns="58320" bIns="46800" anchor="ctr">
                      <a:noAutofit/>
                    </a:bodyPr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ronológico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sigue las pautas de una secuencia narrativa, presentando un proceso a lo largo del tiemp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frecuencia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en la presentación de datos, es posible poner primero los aspectos más frecuentes o importantes, para luego pasar a indicar, en orden de frecuencia o importancia, el rest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intetizante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la exposición va de lo más particular a lo más general; se presenta una serie de datos o posibilidades para luego ofrecer generalizaciones.</a:t>
                      </a: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ste orden se denomina también “inductivo”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DEL TEXTO EXPOSITIVO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Orden de la estructuración (II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16000" y="1835280"/>
          <a:ext cx="9577440" cy="5544720"/>
        </p:xfrm>
        <a:graphic>
          <a:graphicData uri="http://schemas.openxmlformats.org/drawingml/2006/table">
            <a:tbl>
              <a:tblPr/>
              <a:tblGrid>
                <a:gridCol w="9577440"/>
              </a:tblGrid>
              <a:tr h="5544720">
                <a:tc>
                  <a:txBody>
                    <a:bodyPr lIns="90000" rIns="90000" tIns="58320" bIns="46800" anchor="ctr">
                      <a:noAutofit/>
                    </a:bodyPr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ausal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iertos aspectos determinan otros, es decir, de ellos resultan consecuenci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mparación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mejanzas entre dos fenómenos. Puede ser útil para ejemplificar o aclarar las cos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ntraste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 la inversa, señalamos las diferenci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umeración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esentar los datos en una lista. Es una secuencia descriptiva.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Funcional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ra qué sirve una cosa, o una parte de esa cos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oblema-solución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nte un problema dado, podemos señalar las soluciones que se han propuesto o llevado a cabo, sin tomar partid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IFICACIONES DEL TEXTO EXPOSITIVO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16000" y="1547640"/>
          <a:ext cx="9577440" cy="5896080"/>
        </p:xfrm>
        <a:graphic>
          <a:graphicData uri="http://schemas.openxmlformats.org/drawingml/2006/table">
            <a:tbl>
              <a:tblPr/>
              <a:tblGrid>
                <a:gridCol w="4464000"/>
                <a:gridCol w="5113440"/>
              </a:tblGrid>
              <a:tr h="1395720">
                <a:tc gridSpan="2">
                  <a:txBody>
                    <a:bodyPr lIns="90000" rIns="90000" tIns="576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EGÚN SU GRADO DE DIFICULTAD</a:t>
                      </a:r>
                      <a:r>
                        <a:rPr b="0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5680"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XPOSICIÓN DIVULGATIVA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l público no es especializado. El lenguaje es sencillo, sin gran complicación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2614680"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XPOSICIÓN ESPECIALIZADA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úblico con conocimientos pre-vios en la materia. Lenguaje complicado, con tecnicismos propios de la materia tratada, fórmulas especiales, etc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IFICACIONES DEL TEXTO EXPOSITIVO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60360" y="1835280"/>
          <a:ext cx="9217080" cy="4968720"/>
        </p:xfrm>
        <a:graphic>
          <a:graphicData uri="http://schemas.openxmlformats.org/drawingml/2006/table">
            <a:tbl>
              <a:tblPr/>
              <a:tblGrid>
                <a:gridCol w="9217080"/>
              </a:tblGrid>
              <a:tr h="1034640">
                <a:tc>
                  <a:txBody>
                    <a:bodyPr lIns="90000" rIns="90000" tIns="576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EGÚN EL CANAL Y EL FORMATO (I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OR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34080">
                <a:tc>
                  <a:txBody>
                    <a:bodyPr lIns="90000" rIns="90000" tIns="57600" bIns="46800" anchor="t" anchorCtr="1">
                      <a:noAutofit/>
                    </a:bodyPr>
                    <a:p>
                      <a:pPr indent="3650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onferenci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lase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ocumental televisiv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elediari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ocumental radiofónic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IFICACIONES DEL TEXTO EXPOSITIVO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60360" y="1835280"/>
          <a:ext cx="9217080" cy="5400720"/>
        </p:xfrm>
        <a:graphic>
          <a:graphicData uri="http://schemas.openxmlformats.org/drawingml/2006/table">
            <a:tbl>
              <a:tblPr/>
              <a:tblGrid>
                <a:gridCol w="9217080"/>
              </a:tblGrid>
              <a:tr h="1035000">
                <a:tc>
                  <a:txBody>
                    <a:bodyPr lIns="90000" rIns="90000" tIns="576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EGÚN EL CANAL Y EL FORMATO (II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SCRI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365720">
                <a:tc>
                  <a:txBody>
                    <a:bodyPr lIns="90000" rIns="90000" tIns="57600" bIns="46800" anchor="t" anchorCtr="1">
                      <a:noAutofit/>
                    </a:bodyPr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rabajo de investigació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ibro de text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rtículo informativo de un periódic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Informe de procesos o resultado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iccionarios y enciclopedi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cta de una reunió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urrículum vitae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visos informativo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ARACTERÍSTICAS DEL TEXTO EXPOSITIVO (I)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La claridad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87280" y="1403280"/>
          <a:ext cx="9433080" cy="5873760"/>
        </p:xfrm>
        <a:graphic>
          <a:graphicData uri="http://schemas.openxmlformats.org/drawingml/2006/table">
            <a:tbl>
              <a:tblPr/>
              <a:tblGrid>
                <a:gridCol w="9433080"/>
              </a:tblGrid>
              <a:tr h="604800">
                <a:tc>
                  <a:txBody>
                    <a:bodyPr lIns="90000" rIns="90000" tIns="58320" bIns="468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ra conseguir una mayor claridad, debemo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5268960"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ividir en párraf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oner subtítulos y emplear sistemas de enumeración (es decir, hacer lista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Incluir elementos gráficos: mapas, fotos, esquema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mplear un lenguaje adecuado, con oraciones brev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lantear aclaraciones y ejemplificacion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Utilizar los marcadores del discurso y conectores más convenien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2887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ARACTERÍSTICAS DEL TEXTO EXPOSITIVO (II)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La precisión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87280" y="1403280"/>
          <a:ext cx="9433080" cy="5873760"/>
        </p:xfrm>
        <a:graphic>
          <a:graphicData uri="http://schemas.openxmlformats.org/drawingml/2006/table">
            <a:tbl>
              <a:tblPr/>
              <a:tblGrid>
                <a:gridCol w="9433080"/>
              </a:tblGrid>
              <a:tr h="604800">
                <a:tc>
                  <a:txBody>
                    <a:bodyPr lIns="90000" rIns="90000" tIns="58320" bIns="468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ra conseguir una mayor precisión, debemo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5268960"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85680" algn="just">
                        <a:lnSpc>
                          <a:spcPct val="117000"/>
                        </a:lnSpc>
                        <a:spcBef>
                          <a:spcPts val="649"/>
                        </a:spcBef>
                        <a:spcAft>
                          <a:spcPts val="975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emplean palabras monosémicas, es decir, de un solo significado. En textos científicos y técnicos aparecen los “tecnicismos”, palabras propias de una ciencia o técnic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649"/>
                        </a:spcBef>
                        <a:spcAft>
                          <a:spcPts val="975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expresan muchas definiciones, para dejar claros los conceptos. Por ello, encontraremos muchas oraciones copulativas con el verbo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r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, que definirán los conceptos.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612"/>
                        </a:spcBef>
                        <a:spcAft>
                          <a:spcPts val="612"/>
                        </a:spcAft>
                        <a:tabLst>
                          <a:tab algn="l" pos="0"/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7280" y="306360"/>
            <a:ext cx="9506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ARACTERÍSTICAS DEL TEXTO EXPOSITIVO (III)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La objetividad</a:t>
            </a: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87280" y="1908000"/>
          <a:ext cx="9433080" cy="5158080"/>
        </p:xfrm>
        <a:graphic>
          <a:graphicData uri="http://schemas.openxmlformats.org/drawingml/2006/table">
            <a:tbl>
              <a:tblPr/>
              <a:tblGrid>
                <a:gridCol w="9433080"/>
              </a:tblGrid>
              <a:tr h="605160">
                <a:tc>
                  <a:txBody>
                    <a:bodyPr lIns="90000" rIns="90000" tIns="58320" bIns="468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ra presentar objetividad, tengamos en cuenta que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552920"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85680"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 los textos expositivos no se expresa la opinión del autor, ni sus gustos, sentimientos, o preferencias. Por ell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. Hay pocos adjetivos, en general con valor especificativ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emplea el modo indicativo, con valor intemporal (es decir, que vale para todo tiempo y lugar)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utiliza la tercera persona, en oraciones de modalidad enunciativ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recurre con frecuencia a oraciones impersonales o de pasiva refleja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TEXTOS EXPOSITIVOS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Conectores y marcadores del discurso (I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04720" y="1768320"/>
          <a:ext cx="9215280" cy="4819320"/>
        </p:xfrm>
        <a:graphic>
          <a:graphicData uri="http://schemas.openxmlformats.org/drawingml/2006/table">
            <a:tbl>
              <a:tblPr/>
              <a:tblGrid>
                <a:gridCol w="9215280"/>
              </a:tblGrid>
              <a:tr h="984960">
                <a:tc>
                  <a:txBody>
                    <a:bodyPr lIns="90000" rIns="90000" tIns="144000" bIns="144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rganización tex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8343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rdenación general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 primer lugar, en segundo lugar, en resumen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rdenación espacial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 el exterior, en el interior, dentro, fuera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rdenación temporal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imero, luego, después, mientras, al final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TEXTOS EXPOSITIVOS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Conectores y marcadores del discurso (II)</a:t>
            </a: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04720" y="1768320"/>
          <a:ext cx="9072720" cy="5073840"/>
        </p:xfrm>
        <a:graphic>
          <a:graphicData uri="http://schemas.openxmlformats.org/drawingml/2006/table">
            <a:tbl>
              <a:tblPr/>
              <a:tblGrid>
                <a:gridCol w="9072720"/>
              </a:tblGrid>
              <a:tr h="787320">
                <a:tc>
                  <a:txBody>
                    <a:bodyPr lIns="90000" rIns="90000" tIns="144000" bIns="144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nect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2908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adición y enumeración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demás, y, también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ausa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orque, ya que, dado que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omparación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mo, al igual que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ondición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i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onsecuencia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or tanto, por ello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ontraste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ero, en cambio, sin embargo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4" marL="6013440" indent="-252360" algn="ctr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(Sigu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TEXTOS EXPOSITIVOS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Conectores y marcadores del discurso (III)</a:t>
            </a: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079640" y="1908000"/>
          <a:ext cx="7993080" cy="423576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787680">
                <a:tc>
                  <a:txBody>
                    <a:bodyPr lIns="90000" rIns="90000" tIns="144000" bIns="144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nect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4480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ejemplificación: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or ejemplo, etc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explicación: 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 otras palabras, es decir, etc.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finalidad: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 fin de, para, etc.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posición: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unque, etc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DEL TEXTO EXPOSITIVO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general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60360" y="1763640"/>
          <a:ext cx="9433080" cy="5467320"/>
        </p:xfrm>
        <a:graphic>
          <a:graphicData uri="http://schemas.openxmlformats.org/drawingml/2006/table">
            <a:tbl>
              <a:tblPr/>
              <a:tblGrid>
                <a:gridCol w="9433080"/>
              </a:tblGrid>
              <a:tr h="5609160"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Un texto expositivo se divide en introducción, desarrollo y cierre o conclusión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Introducción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se concreta y presenta el tem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sarrollo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(también llamado "cuerpo de la exposición"): explicación de tem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74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ierre o conclusión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breve resumen o recapitulación; a veces puede faltar.</a:t>
                      </a: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DEL TEXTO EXPOSITIVO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Orden de la estructuración (I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16000" y="1908000"/>
          <a:ext cx="9577440" cy="5040360"/>
        </p:xfrm>
        <a:graphic>
          <a:graphicData uri="http://schemas.openxmlformats.org/drawingml/2006/table">
            <a:tbl>
              <a:tblPr/>
              <a:tblGrid>
                <a:gridCol w="9577440"/>
              </a:tblGrid>
              <a:tr h="5040360">
                <a:tc>
                  <a:txBody>
                    <a:bodyPr lIns="90000" rIns="90000" tIns="58320" bIns="46800" anchor="ctr">
                      <a:noAutofit/>
                    </a:bodyPr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lfabético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es el orden más sencillo, propio de glosarios, diccionarios y enciclopedi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nalizante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descripción de las diversas partes en que se compone alg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lasificatorio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presenta tipos o clases, que reúnen elementos que tienen algo en común, que define la clase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l criterio analizante, y el clasificatorio, se pueden incluir en una categoría más general: la estructura "deductiva", llamada así porque pasa de lo más general a lo más particula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05:50:01Z</dcterms:created>
  <dc:creator>Guillermo </dc:creator>
  <dc:description/>
  <dc:language>en-US</dc:language>
  <cp:lastModifiedBy>Guillermo</cp:lastModifiedBy>
  <dcterms:modified xsi:type="dcterms:W3CDTF">2014-07-19T11:38:53Z</dcterms:modified>
  <cp:revision>17</cp:revision>
  <dc:subject/>
  <dc:title>EL TEXTO DESCRIPTIVO  </dc:title>
</cp:coreProperties>
</file>